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AF17-6706-4AEA-8F4A-2230B8CE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E34-8E19-4DFE-B1B1-A6E10FB9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gaeforbiofuels.com/genetic-engineering-brief-overvie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D025-FD49-4697-BA37-FB1788DB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D8C0-5070-4F36-902B-0AC94A8B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bsite has a lot of information about th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780-F5AD-4064-BC0C-0DBC5B47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6CA-685D-42B3-A5F4-A0ED21912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graphic from: http://www.cdc.gov/cancer/breast/young_women/knowbrc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B7D-24ED-4801-811E-2C7F1ADD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ontario.ca/page/progress-report-2014-health-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3BE9-D76D-4F4A-AF1F-CD4794A7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ama.ama-assn.org/content/292/19/2325.sh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AE6-D83D-41A5-8D7E-95123B26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s screened: https://www.newbornscreening.on.ca/en/about-screening/diseases-scre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B65-2E69-4559-82FE-C0993C0D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041-0666-4E3A-9721-7036B12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F8A-5B8B-4795-9547-C0CBEA75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A41-8455-48A3-A7F5-4CCD0C2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0B7-D14F-46D9-866C-0AADB9D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B0E-C7F0-4702-930F-359104C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B30-9F1F-4E0E-9EAA-D9A42485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5FF-C304-4897-850F-52185C68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428-AA8C-4861-BE6A-CD4C276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B8D-3287-48A8-83A6-84B649B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660-61BE-4E65-9840-0680F08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3F1-9024-4B59-ABA8-D7D2C16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C86-AE35-448C-80CF-C638F4A7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isord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ar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identification of some hereditary disorders can help to allow for treatment to minimize symptoms throug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iss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fcan"/>
          <p:cNvPicPr/>
          <p:nvPr/>
        </p:nvPicPr>
        <p:blipFill>
          <a:blip r:embed="rId1"/>
          <a:stretch/>
        </p:blipFill>
        <p:spPr>
          <a:xfrm>
            <a:off x="685800" y="2071800"/>
            <a:ext cx="7772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known mutations that lead to CF (can detect 80% of CF mu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verproduction of mucus that clogs lungs and pancreatic duct, and leads to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Know_Brca_Infographic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ms caused by mutations in BRCA1 or BRCA2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tumour-suppressing genes; defective genes cause tumours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12% chance of developing breast cancer;  defective genes increase chance to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ketonuria (P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cks enzyme to break down amino acid phenylalanine (needed to make proteins &amp; essential brain chemic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cted early, changes in diet can allow individual to live no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Screen Shot 2018-05-09 at 3.12.13 PM.png"/>
          <p:cNvPicPr/>
          <p:nvPr/>
        </p:nvPicPr>
        <p:blipFill>
          <a:blip r:embed="rId1"/>
          <a:srcRect l="0" t="-51372" r="0" b="-5137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raphic-1"/>
          <p:cNvPicPr/>
          <p:nvPr/>
        </p:nvPicPr>
        <p:blipFill>
          <a:blip r:embed="rId1"/>
          <a:stretch/>
        </p:blipFill>
        <p:spPr>
          <a:xfrm>
            <a:off x="1862280" y="609480"/>
            <a:ext cx="541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combined immune de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31" descr="New_Ontario_logo"/>
          <p:cNvPicPr/>
          <p:nvPr/>
        </p:nvPicPr>
        <p:blipFill>
          <a:blip r:embed="rId1"/>
          <a:stretch/>
        </p:blipFill>
        <p:spPr>
          <a:xfrm>
            <a:off x="2448000" y="5048280"/>
            <a:ext cx="4246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0:54Z</dcterms:created>
  <dc:creator>rubina khan</dc:creator>
  <dc:description/>
  <dc:language>en-US</dc:language>
  <cp:lastModifiedBy>rubina khan</cp:lastModifiedBy>
  <dcterms:modified xsi:type="dcterms:W3CDTF">2018-05-09T19:15:01Z</dcterms:modified>
  <cp:revision>87</cp:revision>
  <dc:subject/>
  <dc:title>Genetic Engineering Biotechnology &amp; Helath</dc:title>
</cp:coreProperties>
</file>